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3.wmf" ContentType="image/x-wmf"/>
  <Override PartName="/ppt/media/image8.jpeg" ContentType="image/jpeg"/>
  <Override PartName="/ppt/media/image11.wmf" ContentType="image/x-wmf"/>
  <Override PartName="/ppt/media/image10.wmf" ContentType="image/x-wmf"/>
  <Override PartName="/ppt/media/image4.jpeg" ContentType="image/jpeg"/>
  <Override PartName="/ppt/media/image25.png" ContentType="image/png"/>
  <Override PartName="/ppt/media/image7.jpeg" ContentType="image/jpeg"/>
  <Override PartName="/ppt/media/image12.wmf" ContentType="image/x-wmf"/>
  <Override PartName="/ppt/media/image6.jpeg" ContentType="image/jpeg"/>
  <Override PartName="/ppt/media/image9.wmf" ContentType="image/x-wmf"/>
  <Override PartName="/ppt/media/image5.jpeg" ContentType="image/jpeg"/>
  <Override PartName="/ppt/media/image20.wmf" ContentType="image/x-wmf"/>
  <Override PartName="/ppt/media/image26.jpeg" ContentType="image/jpe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8.gif" ContentType="image/gif"/>
  <Override PartName="/ppt/media/image17.wmf" ContentType="image/x-wmf"/>
  <Override PartName="/ppt/media/image16.jpeg" ContentType="image/jpeg"/>
  <Override PartName="/ppt/media/image15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1AE91-B1FC-4815-9150-3D3849A3CFF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04920" y="4571640"/>
            <a:ext cx="624816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04920" y="4419720"/>
            <a:ext cx="6324480" cy="44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6840" y="4343040"/>
            <a:ext cx="609588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143000" y="4267080"/>
            <a:ext cx="4495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18148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’re growing (one-third) over the past decade, however, demographically we’re staying relatively in the same propor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pulation to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0 =  7,157 (budget)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lain" startAt="198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8,746 (budget) (22.2% incr from 197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lain" startAt="199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9,110 (census- budget) (4.2% incr from 198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= 12,019 (census) (31.9% incr from 199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using to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 = 3,311 (community develop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 = 3,619 (community development) (9.3% incr from 198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= 4,825 (census data) (33.3% incr from 199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1DFA-F242-4960-8446-AAAC7C5BB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5B70-C1EC-4281-82BD-FD9908F69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2657-1FCA-407C-BF75-9259F04F3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78D6-7871-4F05-AFFB-20B837DC4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EF02E-D72A-4CC1-B9D9-CD779E9C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98702-FEF5-4784-855C-C3F732F5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A9DB0-A187-4AE9-AF7D-CAC3FD02D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BF61D-740D-48F0-9CEB-B92E81F7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50589-1D1B-4F7D-9270-F10E9A896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384E-6299-47E1-A6BB-B30ADB80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EF781-7D0A-4CA2-B653-EF5AFCCD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A609-E10E-49A7-BDFD-249D5646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C3A9F-A6DD-4EB5-BB17-752F17EED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F75F9-B6DE-436C-A09F-4941DDE84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E4F48-74C4-4BE6-8268-8294F3E8D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26607-5E0C-4DFD-9BA8-5205E0BE3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FC025-60E3-4E5B-8124-198DD068B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77234-B423-4AC4-BD16-1853C746D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474FB-5595-4267-8D4E-35864AC5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3C6C-3080-4974-97BC-AA194A27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EE04-14D9-4FAD-8B13-613514A5E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834D-37BC-421E-8CEF-18F17E68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9FA0-30F4-4215-B54B-2CA803CA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F473-C56D-4B01-96F4-0AF593B0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8080"/>
              </a:gs>
              <a:gs pos="100000">
                <a:srgbClr val="b09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27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399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BEAFA-ADBB-4880-9075-B4F71D525EB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8080"/>
              </a:gs>
              <a:gs pos="100000">
                <a:srgbClr val="b09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27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399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A5CC4-46CA-473F-AAF5-4594660BEDE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3886200" y="380880"/>
          <a:ext cx="4572000" cy="41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80880"/>
                    <a:ext cx="4572000" cy="4164120"/>
                  </a:xfrm>
                  <a:prstGeom prst="rect">
                    <a:avLst/>
                  </a:prstGeom>
                  <a:ln w="76320">
                    <a:solidFill>
                      <a:srgbClr val="b098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609480" y="4768560"/>
            <a:ext cx="4800600" cy="1477080"/>
          </a:xfrm>
          <a:prstGeom prst="rect">
            <a:avLst/>
          </a:prstGeom>
          <a:solidFill>
            <a:srgbClr val="827c66"/>
          </a:soli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001 Citizen Surv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38080" y="457200"/>
            <a:ext cx="784872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ity Gover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95480" y="1523880"/>
            <a:ext cx="518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eel the City is well-manag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1371600"/>
            <a:ext cx="1600200" cy="10666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5400000"/>
          </a:gra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85.5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2666880"/>
            <a:ext cx="746748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well does the City Government ope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66680" y="2971800"/>
          <a:ext cx="7086600" cy="352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971800"/>
                    <a:ext cx="7086600" cy="35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6781680" y="3505320"/>
            <a:ext cx="1295640" cy="641160"/>
          </a:xfrm>
          <a:prstGeom prst="rect">
            <a:avLst/>
          </a:prstGeom>
          <a:solidFill>
            <a:srgbClr val="808000"/>
          </a:solidFill>
          <a:ln w="19080">
            <a:solidFill>
              <a:srgbClr val="827c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.5% no opin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29400" y="4419720"/>
            <a:ext cx="1295280" cy="641160"/>
          </a:xfrm>
          <a:prstGeom prst="rect">
            <a:avLst/>
          </a:prstGeom>
          <a:solidFill>
            <a:srgbClr val="808000"/>
          </a:solidFill>
          <a:ln w="19080">
            <a:solidFill>
              <a:srgbClr val="827c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.4% no opin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6324480"/>
            <a:ext cx="6095880" cy="33732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based on respondents who have an opin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ity Services – Public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2971800"/>
            <a:ext cx="5410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e overall quality of Police services good or very goo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38280" y="1676520"/>
            <a:ext cx="5562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e overall quality of Fire/EMS services good or very goo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6019920"/>
            <a:ext cx="7086600" cy="58068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996 survey Fire/EMS 100%, Police 94.3%, Felt safe 92%.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based on respondents who have an opin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1600200"/>
            <a:ext cx="1535040" cy="1069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22320">
            <a:solidFill>
              <a:srgbClr val="827c66"/>
            </a:solidFill>
            <a:miter/>
          </a:ln>
          <a:effectLst>
            <a:outerShdw dist="17819" dir="2700000" blurRad="0" rotWithShape="0">
              <a:srgbClr val="4d4a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99.6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62920" y="2971800"/>
            <a:ext cx="152388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3b"/>
              </a:gs>
              <a:gs pos="50000">
                <a:srgbClr val="000080"/>
              </a:gs>
              <a:gs pos="100000">
                <a:srgbClr val="00003b"/>
              </a:gs>
            </a:gsLst>
            <a:lin ang="5400000"/>
          </a:gradFill>
          <a:ln w="22320">
            <a:solidFill>
              <a:srgbClr val="827c66"/>
            </a:solidFill>
            <a:miter/>
          </a:ln>
          <a:effectLst>
            <a:outerShdw dist="17819" dir="2700000" blurRad="0" rotWithShape="0">
              <a:srgbClr val="4d4a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91.2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4343400"/>
            <a:ext cx="6019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ate that they feel safe or very safe in the City of Maitlan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4343400"/>
            <a:ext cx="152388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14600"/>
              </a:gs>
              <a:gs pos="50000">
                <a:srgbClr val="b09800"/>
              </a:gs>
              <a:gs pos="100000">
                <a:srgbClr val="514600"/>
              </a:gs>
            </a:gsLst>
            <a:lin ang="5400000"/>
          </a:gradFill>
          <a:ln w="25560">
            <a:solidFill>
              <a:srgbClr val="996633"/>
            </a:solidFill>
            <a:miter/>
          </a:ln>
          <a:effectLst>
            <a:outerShdw dist="17819" dir="2700000" blurRad="0" rotWithShape="0">
              <a:srgbClr val="5b3c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91.8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84872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ity Services – P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1523880"/>
            <a:ext cx="5715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e the appearance of Maitland Parks as good or very goo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523880"/>
            <a:ext cx="2143080" cy="1067040"/>
          </a:xfrm>
          <a:custGeom>
            <a:avLst/>
            <a:gdLst>
              <a:gd name="textAreaLeft" fmla="*/ 535680 w 2143080"/>
              <a:gd name="textAreaRight" fmla="*/ 1607400 w 2143080"/>
              <a:gd name="textAreaTop" fmla="*/ 0 h 1067040"/>
              <a:gd name="textAreaBottom" fmla="*/ 933840 h 10670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1584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95.6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3124080"/>
            <a:ext cx="3124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2.3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ted the quality of Maitland Parks as good or very good in 199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cc-mastplan26" descr=""/>
          <p:cNvPicPr/>
          <p:nvPr/>
        </p:nvPicPr>
        <p:blipFill>
          <a:blip r:embed="rId1"/>
          <a:stretch/>
        </p:blipFill>
        <p:spPr>
          <a:xfrm>
            <a:off x="4343400" y="2666880"/>
            <a:ext cx="3581280" cy="2686320"/>
          </a:xfrm>
          <a:prstGeom prst="rect">
            <a:avLst/>
          </a:prstGeom>
          <a:ln w="57240">
            <a:solidFill>
              <a:srgbClr val="827c66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1447920" y="5486400"/>
            <a:ext cx="6553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re survey results to be discussed later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6248520"/>
            <a:ext cx="6095880" cy="33732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based on respondents who have an opin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304920" y="1371600"/>
          <a:ext cx="8076960" cy="474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71600"/>
                    <a:ext cx="80769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84872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ity Services – Cultu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1447920"/>
            <a:ext cx="6858000" cy="429120"/>
          </a:xfrm>
          <a:prstGeom prst="rect">
            <a:avLst/>
          </a:prstGeom>
          <a:solidFill>
            <a:srgbClr val="993300"/>
          </a:soli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ultural Groups Satisfaction Comparis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96080" y="2286000"/>
            <a:ext cx="1447920" cy="682560"/>
          </a:xfrm>
          <a:prstGeom prst="rect">
            <a:avLst/>
          </a:prstGeom>
          <a:solidFill>
            <a:srgbClr val="008080"/>
          </a:solidFill>
          <a:ln w="0">
            <a:noFill/>
          </a:ln>
          <a:effectLst>
            <a:outerShdw dist="17819" dir="2700000" blurRad="0" rotWithShape="0">
              <a:srgbClr val="00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1 21.3% no opin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96080" y="3276720"/>
            <a:ext cx="1447920" cy="642600"/>
          </a:xfrm>
          <a:prstGeom prst="rect">
            <a:avLst/>
          </a:prstGeom>
          <a:solidFill>
            <a:srgbClr val="808000"/>
          </a:solidFill>
          <a:ln w="0">
            <a:noFill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1 35.6% no opin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467480" y="4191120"/>
            <a:ext cx="1371600" cy="6426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1 8.7% no opin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6248520"/>
            <a:ext cx="6095880" cy="33732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based on respondents who have an opin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066680" y="1085040"/>
            <a:ext cx="7315200" cy="444240"/>
          </a:xfrm>
          <a:prstGeom prst="rect">
            <a:avLst/>
          </a:prstGeom>
          <a:gradFill rotWithShape="0">
            <a:gsLst>
              <a:gs pos="0">
                <a:srgbClr val="1a4973"/>
              </a:gs>
              <a:gs pos="50000">
                <a:srgbClr val="399ffb"/>
              </a:gs>
              <a:gs pos="100000">
                <a:srgbClr val="1a4973"/>
              </a:gs>
            </a:gsLst>
            <a:lin ang="5400000"/>
          </a:gradFill>
          <a:ln w="38160">
            <a:solidFill>
              <a:srgbClr val="b09800"/>
            </a:solidFill>
            <a:miter/>
          </a:ln>
          <a:effectLst>
            <a:outerShdw dist="17819" dir="2700000" blurRad="0" rotWithShape="0">
              <a:srgbClr val="695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Residents rate the quality of their drinking water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85800" y="4495680"/>
            <a:ext cx="5562720" cy="2041560"/>
            <a:chOff x="685800" y="4495680"/>
            <a:chExt cx="5562720" cy="2041560"/>
          </a:xfrm>
        </p:grpSpPr>
        <p:sp>
          <p:nvSpPr>
            <p:cNvPr id="195" name=""/>
            <p:cNvSpPr/>
            <p:nvPr/>
          </p:nvSpPr>
          <p:spPr>
            <a:xfrm>
              <a:off x="685800" y="4934880"/>
              <a:ext cx="1219320" cy="429120"/>
            </a:xfrm>
            <a:prstGeom prst="rect">
              <a:avLst/>
            </a:prstGeom>
            <a:solidFill>
              <a:srgbClr val="827c66"/>
            </a:solidFill>
            <a:ln w="38160">
              <a:solidFill>
                <a:srgbClr val="399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14.5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5800" y="5520960"/>
              <a:ext cx="1219320" cy="429120"/>
            </a:xfrm>
            <a:prstGeom prst="rect">
              <a:avLst/>
            </a:prstGeom>
            <a:solidFill>
              <a:srgbClr val="827c66"/>
            </a:solidFill>
            <a:ln w="38160">
              <a:solidFill>
                <a:srgbClr val="399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47.7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5800" y="6106680"/>
              <a:ext cx="1219320" cy="429120"/>
            </a:xfrm>
            <a:prstGeom prst="rect">
              <a:avLst/>
            </a:prstGeom>
            <a:solidFill>
              <a:srgbClr val="827c66"/>
            </a:solidFill>
            <a:ln w="38160">
              <a:solidFill>
                <a:srgbClr val="399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12.7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86000" y="6108120"/>
              <a:ext cx="1219320" cy="429120"/>
            </a:xfrm>
            <a:prstGeom prst="rect">
              <a:avLst/>
            </a:prstGeom>
            <a:solidFill>
              <a:srgbClr val="827c66"/>
            </a:solidFill>
            <a:ln w="38160">
              <a:solidFill>
                <a:srgbClr val="399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14.8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86000" y="4934880"/>
              <a:ext cx="1219320" cy="429120"/>
            </a:xfrm>
            <a:prstGeom prst="rect">
              <a:avLst/>
            </a:prstGeom>
            <a:solidFill>
              <a:srgbClr val="827c66"/>
            </a:solidFill>
            <a:ln w="38160">
              <a:solidFill>
                <a:srgbClr val="399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13.2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86000" y="5520960"/>
              <a:ext cx="1219320" cy="429120"/>
            </a:xfrm>
            <a:prstGeom prst="rect">
              <a:avLst/>
            </a:prstGeom>
            <a:solidFill>
              <a:srgbClr val="827c66"/>
            </a:solidFill>
            <a:ln w="38160">
              <a:solidFill>
                <a:srgbClr val="399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38.8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2120" y="4495680"/>
              <a:ext cx="1066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362320" y="4495680"/>
              <a:ext cx="1066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81640" y="4934880"/>
              <a:ext cx="2057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Very Good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7600" y="5520960"/>
              <a:ext cx="2057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Good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81640" y="6108120"/>
              <a:ext cx="2666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Poor/Very Poor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6" name="ag00180_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2210040" cy="128412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2819520" y="1600200"/>
            <a:ext cx="5715000" cy="2105280"/>
            <a:chOff x="2819520" y="1600200"/>
            <a:chExt cx="5715000" cy="2105280"/>
          </a:xfrm>
        </p:grpSpPr>
        <p:grpSp>
          <p:nvGrpSpPr>
            <p:cNvPr id="208" name=""/>
            <p:cNvGrpSpPr/>
            <p:nvPr/>
          </p:nvGrpSpPr>
          <p:grpSpPr>
            <a:xfrm>
              <a:off x="5715000" y="1600200"/>
              <a:ext cx="2819520" cy="2105280"/>
              <a:chOff x="5715000" y="1600200"/>
              <a:chExt cx="2819520" cy="2105280"/>
            </a:xfrm>
          </p:grpSpPr>
          <p:sp>
            <p:nvSpPr>
              <p:cNvPr id="209" name=""/>
              <p:cNvSpPr/>
              <p:nvPr/>
            </p:nvSpPr>
            <p:spPr>
              <a:xfrm>
                <a:off x="5715000" y="2057040"/>
                <a:ext cx="1219320" cy="429120"/>
              </a:xfrm>
              <a:prstGeom prst="rect">
                <a:avLst/>
              </a:prstGeom>
              <a:solidFill>
                <a:srgbClr val="827c66"/>
              </a:solidFill>
              <a:ln w="38160">
                <a:solidFill>
                  <a:srgbClr val="399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18.8%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715000" y="2666880"/>
                <a:ext cx="1219320" cy="429120"/>
              </a:xfrm>
              <a:prstGeom prst="rect">
                <a:avLst/>
              </a:prstGeom>
              <a:solidFill>
                <a:srgbClr val="827c66"/>
              </a:solidFill>
              <a:ln w="38160">
                <a:solidFill>
                  <a:srgbClr val="399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41.1%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715000" y="3276360"/>
                <a:ext cx="1219320" cy="429120"/>
              </a:xfrm>
              <a:prstGeom prst="rect">
                <a:avLst/>
              </a:prstGeom>
              <a:solidFill>
                <a:srgbClr val="827c66"/>
              </a:solidFill>
              <a:ln w="38160">
                <a:solidFill>
                  <a:srgbClr val="399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15.3%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315200" y="3276360"/>
                <a:ext cx="1219320" cy="429120"/>
              </a:xfrm>
              <a:prstGeom prst="rect">
                <a:avLst/>
              </a:prstGeom>
              <a:solidFill>
                <a:srgbClr val="827c66"/>
              </a:solidFill>
              <a:ln w="38160">
                <a:solidFill>
                  <a:srgbClr val="399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19.8%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315200" y="2057040"/>
                <a:ext cx="1219320" cy="429120"/>
              </a:xfrm>
              <a:prstGeom prst="rect">
                <a:avLst/>
              </a:prstGeom>
              <a:solidFill>
                <a:srgbClr val="827c66"/>
              </a:solidFill>
              <a:ln w="38160">
                <a:solidFill>
                  <a:srgbClr val="399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9.5%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315200" y="2666880"/>
                <a:ext cx="1219320" cy="429120"/>
              </a:xfrm>
              <a:prstGeom prst="rect">
                <a:avLst/>
              </a:prstGeom>
              <a:solidFill>
                <a:srgbClr val="827c66"/>
              </a:solidFill>
              <a:ln w="38160">
                <a:solidFill>
                  <a:srgbClr val="399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44.9%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791320" y="1600200"/>
                <a:ext cx="10666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2001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391520" y="1600200"/>
                <a:ext cx="10666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1996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3429000" y="2133360"/>
              <a:ext cx="2057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Very Good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9000" y="2743200"/>
              <a:ext cx="2057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Good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19520" y="3276360"/>
              <a:ext cx="2666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Poor/Very Poor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066680" y="3904560"/>
            <a:ext cx="7315200" cy="444240"/>
          </a:xfrm>
          <a:prstGeom prst="rect">
            <a:avLst/>
          </a:prstGeom>
          <a:gradFill rotWithShape="0">
            <a:gsLst>
              <a:gs pos="0">
                <a:srgbClr val="1a4973"/>
              </a:gs>
              <a:gs pos="50000">
                <a:srgbClr val="399ffb"/>
              </a:gs>
              <a:gs pos="100000">
                <a:srgbClr val="1a4973"/>
              </a:gs>
            </a:gsLst>
            <a:lin ang="5400000"/>
          </a:gradFill>
          <a:ln w="38160">
            <a:solidFill>
              <a:srgbClr val="b09800"/>
            </a:solidFill>
            <a:miter/>
          </a:ln>
          <a:effectLst>
            <a:outerShdw dist="17819" dir="2700000" blurRad="0" rotWithShape="0">
              <a:srgbClr val="695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Residents rate the quality of Maitland lak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228600"/>
            <a:ext cx="784872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ity Services –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19920" y="4800600"/>
            <a:ext cx="2819160" cy="785520"/>
          </a:xfrm>
          <a:prstGeom prst="rect">
            <a:avLst/>
          </a:prstGeom>
          <a:gradFill rotWithShape="0">
            <a:gsLst>
              <a:gs pos="0">
                <a:srgbClr val="1a4973"/>
              </a:gs>
              <a:gs pos="50000">
                <a:srgbClr val="399ffb"/>
              </a:gs>
              <a:gs pos="100000">
                <a:srgbClr val="1a4973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 opinion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 14.5% ,1996 25.8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5867280"/>
            <a:ext cx="281916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based on respondents who have an opin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819160" y="533520"/>
            <a:ext cx="6019560" cy="76176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ity Services – Stre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0" y="1447920"/>
          <a:ext cx="8686800" cy="438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868680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7086600" y="1828800"/>
            <a:ext cx="1676520" cy="590400"/>
          </a:xfrm>
          <a:prstGeom prst="rect">
            <a:avLst/>
          </a:prstGeom>
          <a:solidFill>
            <a:srgbClr val="808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1Poor/Very Poor 5.7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467480" y="2819520"/>
            <a:ext cx="1752840" cy="609480"/>
          </a:xfrm>
          <a:prstGeom prst="rect">
            <a:avLst/>
          </a:prstGeom>
          <a:solidFill>
            <a:srgbClr val="800000"/>
          </a:solidFill>
          <a:ln w="936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1 Poor/Very Poor 4.2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62920" y="3886200"/>
            <a:ext cx="1752480" cy="590400"/>
          </a:xfrm>
          <a:prstGeom prst="rect">
            <a:avLst/>
          </a:prstGeom>
          <a:solidFill>
            <a:srgbClr val="00808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1 Poor/Very Poor 8.3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15000" y="5486400"/>
            <a:ext cx="1371600" cy="528480"/>
          </a:xfrm>
          <a:prstGeom prst="rect">
            <a:avLst/>
          </a:prstGeom>
          <a:solidFill>
            <a:srgbClr val="800000"/>
          </a:solidFill>
          <a:ln w="936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Very Good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5562720"/>
            <a:ext cx="1218960" cy="452160"/>
          </a:xfrm>
          <a:prstGeom prst="rect">
            <a:avLst/>
          </a:prstGeom>
          <a:solidFill>
            <a:srgbClr val="800000"/>
          </a:solidFill>
          <a:ln w="936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Good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343400" y="4800240"/>
            <a:ext cx="0" cy="76212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400800" y="4800240"/>
            <a:ext cx="0" cy="68580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bd05679_" descr=""/>
          <p:cNvPicPr/>
          <p:nvPr/>
        </p:nvPicPr>
        <p:blipFill>
          <a:blip r:embed="rId3"/>
          <a:stretch/>
        </p:blipFill>
        <p:spPr>
          <a:xfrm>
            <a:off x="762120" y="304920"/>
            <a:ext cx="1676160" cy="16221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828800" y="6248520"/>
            <a:ext cx="6095880" cy="33732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based on respondents who have an opin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84872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Electric Reliability and Undergrou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762120" y="1295280"/>
          <a:ext cx="7238880" cy="360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7238880" cy="36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990720" y="1295280"/>
            <a:ext cx="7238880" cy="459720"/>
          </a:xfrm>
          <a:prstGeom prst="rect">
            <a:avLst/>
          </a:prstGeom>
          <a:solidFill>
            <a:srgbClr val="800000"/>
          </a:solidFill>
          <a:ln w="1584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iability of  Electri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772400" y="2057400"/>
            <a:ext cx="990720" cy="457200"/>
          </a:xfrm>
          <a:prstGeom prst="rect">
            <a:avLst/>
          </a:prstGeom>
          <a:solidFill>
            <a:srgbClr val="b09800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934320" y="3048120"/>
            <a:ext cx="1066680" cy="457200"/>
          </a:xfrm>
          <a:prstGeom prst="rect">
            <a:avLst/>
          </a:prstGeom>
          <a:solidFill>
            <a:srgbClr val="b09800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876560" y="3123720"/>
            <a:ext cx="2057400" cy="457560"/>
            <a:chOff x="4876560" y="3123720"/>
            <a:chExt cx="2057400" cy="457560"/>
          </a:xfrm>
        </p:grpSpPr>
        <p:sp>
          <p:nvSpPr>
            <p:cNvPr id="243" name=""/>
            <p:cNvSpPr/>
            <p:nvPr/>
          </p:nvSpPr>
          <p:spPr>
            <a:xfrm flipH="1">
              <a:off x="4876560" y="3276360"/>
              <a:ext cx="2057400" cy="30492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5867280" y="3123720"/>
              <a:ext cx="1066680" cy="15228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962160" y="2133360"/>
            <a:ext cx="3810240" cy="533160"/>
            <a:chOff x="3962160" y="2133360"/>
            <a:chExt cx="3810240" cy="533160"/>
          </a:xfrm>
        </p:grpSpPr>
        <p:sp>
          <p:nvSpPr>
            <p:cNvPr id="246" name=""/>
            <p:cNvSpPr/>
            <p:nvPr/>
          </p:nvSpPr>
          <p:spPr>
            <a:xfrm flipH="1">
              <a:off x="3962160" y="2286000"/>
              <a:ext cx="3809880" cy="38052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6858000" y="2133360"/>
              <a:ext cx="914400" cy="15228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57200" y="4952880"/>
            <a:ext cx="2743200" cy="703800"/>
          </a:xfrm>
          <a:prstGeom prst="rect">
            <a:avLst/>
          </a:prstGeom>
          <a:solidFill>
            <a:srgbClr val="827c66"/>
          </a:solidFill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 to bury utility lines throughout 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5943600"/>
            <a:ext cx="2743200" cy="703800"/>
          </a:xfrm>
          <a:prstGeom prst="rect">
            <a:avLst/>
          </a:prstGeom>
          <a:solidFill>
            <a:srgbClr val="b09800"/>
          </a:solidFill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 if it meant an increase in tax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81280" y="5791320"/>
            <a:ext cx="518184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324480" y="5181480"/>
            <a:ext cx="0" cy="129564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43400" y="4572000"/>
            <a:ext cx="1143000" cy="366840"/>
          </a:xfrm>
          <a:prstGeom prst="rect">
            <a:avLst/>
          </a:prstGeom>
          <a:solidFill>
            <a:srgbClr val="808000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86600" y="4572000"/>
            <a:ext cx="1143000" cy="366840"/>
          </a:xfrm>
          <a:prstGeom prst="rect">
            <a:avLst/>
          </a:prstGeom>
          <a:solidFill>
            <a:srgbClr val="808000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29000" y="52419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es 70.7%  No 18.9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00800" y="52578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es 65%  No 19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429000" y="60958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es 55.6%  No 32.1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00800" y="60958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es 53%  No 16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914400" y="228600"/>
            <a:ext cx="7848720" cy="914400"/>
          </a:xfrm>
          <a:prstGeom prst="rect">
            <a:avLst/>
          </a:prstGeom>
          <a:noFill/>
          <a:ln w="12600">
            <a:solidFill>
              <a:srgbClr val="996633"/>
            </a:solidFill>
            <a:miter/>
          </a:ln>
          <a:effectLst>
            <a:outerShdw dist="153753" dir="2700000" blurRad="0" rotWithShape="0">
              <a:srgbClr val="5b3c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Top 5 Municipal Initi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omic Sans MS"/>
              </a:rPr>
              <a:t>(% of respondents who state that an initiative is very important or importan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609480" y="1295280"/>
            <a:ext cx="8534520" cy="914400"/>
            <a:chOff x="609480" y="1295280"/>
            <a:chExt cx="8534520" cy="914400"/>
          </a:xfrm>
        </p:grpSpPr>
        <p:sp>
          <p:nvSpPr>
            <p:cNvPr id="260" name=""/>
            <p:cNvSpPr/>
            <p:nvPr/>
          </p:nvSpPr>
          <p:spPr>
            <a:xfrm>
              <a:off x="1981080" y="1295280"/>
              <a:ext cx="7162920" cy="914400"/>
            </a:xfrm>
            <a:prstGeom prst="rect">
              <a:avLst/>
            </a:prstGeom>
            <a:solidFill>
              <a:srgbClr val="b09800"/>
            </a:solidFill>
            <a:ln w="57240">
              <a:solidFill>
                <a:srgbClr val="996633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1.  A program to improve the quality of lakes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09480" y="1295280"/>
              <a:ext cx="1219320" cy="914400"/>
            </a:xfrm>
            <a:prstGeom prst="rect">
              <a:avLst/>
            </a:prstGeom>
            <a:solidFill>
              <a:srgbClr val="b09800"/>
            </a:solidFill>
            <a:ln w="57240">
              <a:solidFill>
                <a:srgbClr val="996633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75.6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143000" y="2362320"/>
            <a:ext cx="8229600" cy="868320"/>
            <a:chOff x="1143000" y="2362320"/>
            <a:chExt cx="8229600" cy="868320"/>
          </a:xfrm>
        </p:grpSpPr>
        <p:sp>
          <p:nvSpPr>
            <p:cNvPr id="263" name=""/>
            <p:cNvSpPr/>
            <p:nvPr/>
          </p:nvSpPr>
          <p:spPr>
            <a:xfrm>
              <a:off x="2514600" y="2362320"/>
              <a:ext cx="6858000" cy="868320"/>
            </a:xfrm>
            <a:prstGeom prst="rect">
              <a:avLst/>
            </a:prstGeom>
            <a:solidFill>
              <a:srgbClr val="99330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2. Burying power lines throughout the city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43000" y="2362320"/>
              <a:ext cx="1219320" cy="868320"/>
            </a:xfrm>
            <a:prstGeom prst="rect">
              <a:avLst/>
            </a:prstGeom>
            <a:solidFill>
              <a:srgbClr val="99330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68.8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33520" y="3429000"/>
            <a:ext cx="7924680" cy="914400"/>
            <a:chOff x="533520" y="3429000"/>
            <a:chExt cx="7924680" cy="914400"/>
          </a:xfrm>
        </p:grpSpPr>
        <p:sp>
          <p:nvSpPr>
            <p:cNvPr id="266" name=""/>
            <p:cNvSpPr/>
            <p:nvPr/>
          </p:nvSpPr>
          <p:spPr>
            <a:xfrm>
              <a:off x="1905120" y="3429000"/>
              <a:ext cx="6553080" cy="914400"/>
            </a:xfrm>
            <a:prstGeom prst="rect">
              <a:avLst/>
            </a:prstGeom>
            <a:solidFill>
              <a:srgbClr val="00808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3. More recreational programs for youth between 12 and 18 years of age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3520" y="3429000"/>
              <a:ext cx="1218960" cy="914400"/>
            </a:xfrm>
            <a:prstGeom prst="rect">
              <a:avLst/>
            </a:prstGeom>
            <a:solidFill>
              <a:srgbClr val="00808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62.3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143000" y="4572000"/>
            <a:ext cx="7924680" cy="868320"/>
            <a:chOff x="1143000" y="4572000"/>
            <a:chExt cx="7924680" cy="868320"/>
          </a:xfrm>
        </p:grpSpPr>
        <p:sp>
          <p:nvSpPr>
            <p:cNvPr id="269" name=""/>
            <p:cNvSpPr/>
            <p:nvPr/>
          </p:nvSpPr>
          <p:spPr>
            <a:xfrm>
              <a:off x="2514600" y="4572000"/>
              <a:ext cx="6553080" cy="868320"/>
            </a:xfrm>
            <a:prstGeom prst="rect">
              <a:avLst/>
            </a:prstGeom>
            <a:solidFill>
              <a:srgbClr val="827c66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4. Improvements to the 17-92 corridor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43000" y="4572000"/>
              <a:ext cx="1219320" cy="868320"/>
            </a:xfrm>
            <a:prstGeom prst="rect">
              <a:avLst/>
            </a:prstGeom>
            <a:solidFill>
              <a:srgbClr val="827c66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60.2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57200" y="5638680"/>
            <a:ext cx="8305920" cy="914400"/>
            <a:chOff x="457200" y="5638680"/>
            <a:chExt cx="8305920" cy="914400"/>
          </a:xfrm>
        </p:grpSpPr>
        <p:sp>
          <p:nvSpPr>
            <p:cNvPr id="272" name=""/>
            <p:cNvSpPr/>
            <p:nvPr/>
          </p:nvSpPr>
          <p:spPr>
            <a:xfrm>
              <a:off x="1828800" y="5638680"/>
              <a:ext cx="6934320" cy="914400"/>
            </a:xfrm>
            <a:prstGeom prst="rect">
              <a:avLst/>
            </a:prstGeom>
            <a:solidFill>
              <a:srgbClr val="80800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5. More recreational programs for children between 6 and 11 years of age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7200" y="5638680"/>
              <a:ext cx="1219320" cy="914400"/>
            </a:xfrm>
            <a:prstGeom prst="rect">
              <a:avLst/>
            </a:prstGeom>
            <a:solidFill>
              <a:srgbClr val="80800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58.8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914400" y="228600"/>
            <a:ext cx="7848720" cy="762120"/>
          </a:xfrm>
          <a:prstGeom prst="rect">
            <a:avLst/>
          </a:prstGeom>
          <a:noFill/>
          <a:ln w="12600">
            <a:solidFill>
              <a:srgbClr val="996633"/>
            </a:solidFill>
            <a:miter/>
          </a:ln>
          <a:effectLst>
            <a:outerShdw dist="153753" dir="2700000" blurRad="0" rotWithShape="0">
              <a:srgbClr val="5b3c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Next 5 Municipal Initi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33520" y="1219320"/>
            <a:ext cx="8076960" cy="914400"/>
            <a:chOff x="533520" y="1219320"/>
            <a:chExt cx="8076960" cy="914400"/>
          </a:xfrm>
        </p:grpSpPr>
        <p:sp>
          <p:nvSpPr>
            <p:cNvPr id="276" name=""/>
            <p:cNvSpPr/>
            <p:nvPr/>
          </p:nvSpPr>
          <p:spPr>
            <a:xfrm>
              <a:off x="1905120" y="1219320"/>
              <a:ext cx="6705360" cy="914400"/>
            </a:xfrm>
            <a:prstGeom prst="rect">
              <a:avLst/>
            </a:prstGeom>
            <a:solidFill>
              <a:srgbClr val="b09800"/>
            </a:solidFill>
            <a:ln w="57240">
              <a:solidFill>
                <a:srgbClr val="996633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6. Improve the appearance of Downtown Maitland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33520" y="1219320"/>
              <a:ext cx="1218960" cy="914400"/>
            </a:xfrm>
            <a:prstGeom prst="rect">
              <a:avLst/>
            </a:prstGeom>
            <a:solidFill>
              <a:srgbClr val="b09800"/>
            </a:solidFill>
            <a:ln w="57240">
              <a:solidFill>
                <a:srgbClr val="996633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58.5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990720" y="2362320"/>
            <a:ext cx="7467480" cy="914400"/>
            <a:chOff x="990720" y="2362320"/>
            <a:chExt cx="7467480" cy="914400"/>
          </a:xfrm>
        </p:grpSpPr>
        <p:sp>
          <p:nvSpPr>
            <p:cNvPr id="279" name=""/>
            <p:cNvSpPr/>
            <p:nvPr/>
          </p:nvSpPr>
          <p:spPr>
            <a:xfrm>
              <a:off x="2362320" y="2362320"/>
              <a:ext cx="6095880" cy="914400"/>
            </a:xfrm>
            <a:prstGeom prst="rect">
              <a:avLst/>
            </a:prstGeom>
            <a:solidFill>
              <a:srgbClr val="99330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7. Adding new sidewalks where none currently exists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90720" y="2362320"/>
              <a:ext cx="1218960" cy="914400"/>
            </a:xfrm>
            <a:prstGeom prst="rect">
              <a:avLst/>
            </a:prstGeom>
            <a:solidFill>
              <a:srgbClr val="99330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54.4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57200" y="3505320"/>
            <a:ext cx="6477120" cy="868320"/>
            <a:chOff x="457200" y="3505320"/>
            <a:chExt cx="6477120" cy="868320"/>
          </a:xfrm>
        </p:grpSpPr>
        <p:sp>
          <p:nvSpPr>
            <p:cNvPr id="282" name=""/>
            <p:cNvSpPr/>
            <p:nvPr/>
          </p:nvSpPr>
          <p:spPr>
            <a:xfrm>
              <a:off x="1828800" y="3505320"/>
              <a:ext cx="5105520" cy="868320"/>
            </a:xfrm>
            <a:prstGeom prst="rect">
              <a:avLst/>
            </a:prstGeom>
            <a:solidFill>
              <a:srgbClr val="00808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8. Improving existing sidewalks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" y="3505320"/>
              <a:ext cx="1219320" cy="868320"/>
            </a:xfrm>
            <a:prstGeom prst="rect">
              <a:avLst/>
            </a:prstGeom>
            <a:solidFill>
              <a:srgbClr val="00808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53.6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914400" y="4572000"/>
            <a:ext cx="8001000" cy="914400"/>
            <a:chOff x="914400" y="4572000"/>
            <a:chExt cx="8001000" cy="914400"/>
          </a:xfrm>
        </p:grpSpPr>
        <p:sp>
          <p:nvSpPr>
            <p:cNvPr id="285" name=""/>
            <p:cNvSpPr/>
            <p:nvPr/>
          </p:nvSpPr>
          <p:spPr>
            <a:xfrm>
              <a:off x="2286000" y="4572000"/>
              <a:ext cx="6629400" cy="914400"/>
            </a:xfrm>
            <a:prstGeom prst="rect">
              <a:avLst/>
            </a:prstGeom>
            <a:solidFill>
              <a:srgbClr val="827c66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9. Increased City of Maitland involvement in regional transportation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14400" y="4572000"/>
              <a:ext cx="1219320" cy="914400"/>
            </a:xfrm>
            <a:prstGeom prst="rect">
              <a:avLst/>
            </a:prstGeom>
            <a:solidFill>
              <a:srgbClr val="827c66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57.2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57200" y="5791320"/>
            <a:ext cx="7848720" cy="914040"/>
            <a:chOff x="457200" y="5791320"/>
            <a:chExt cx="7848720" cy="914040"/>
          </a:xfrm>
        </p:grpSpPr>
        <p:sp>
          <p:nvSpPr>
            <p:cNvPr id="288" name=""/>
            <p:cNvSpPr/>
            <p:nvPr/>
          </p:nvSpPr>
          <p:spPr>
            <a:xfrm>
              <a:off x="1828800" y="5791320"/>
              <a:ext cx="6477120" cy="910800"/>
            </a:xfrm>
            <a:prstGeom prst="rect">
              <a:avLst/>
            </a:prstGeom>
            <a:solidFill>
              <a:srgbClr val="80800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10. Expanding the Library to increase holdings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" y="5791320"/>
              <a:ext cx="1219320" cy="914040"/>
            </a:xfrm>
            <a:prstGeom prst="rect">
              <a:avLst/>
            </a:prstGeom>
            <a:solidFill>
              <a:srgbClr val="80800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49.4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914400" y="380880"/>
            <a:ext cx="784872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Support for Municipal Initi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5715000"/>
            <a:ext cx="8153280" cy="82404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roving appearance of 17-92 through landscaping/medians/sidewalks was asked using the following scale: very important/important/somewhat important/not important/can’t say. All other items based on: yes/no/can’t s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66680" y="1371600"/>
            <a:ext cx="7467840" cy="703800"/>
          </a:xfrm>
          <a:prstGeom prst="rect">
            <a:avLst/>
          </a:prstGeom>
          <a:solidFill>
            <a:srgbClr val="993300"/>
          </a:soli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 for Municipal Initiatives compared to support if taxes were to incre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28600" y="1523880"/>
          <a:ext cx="8915400" cy="43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8915400" cy="43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3657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Citizen Survey Summ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543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ribes the methodology used to conduct the surve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splays the highlights of the 2001 Citizen Surve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ovides General Conclus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762120"/>
            <a:ext cx="7848720" cy="758880"/>
          </a:xfrm>
          <a:prstGeom prst="rect">
            <a:avLst/>
          </a:prstGeom>
          <a:solidFill>
            <a:srgbClr val="827c66"/>
          </a:solidFill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This 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cc-mastplan25" descr=""/>
          <p:cNvPicPr/>
          <p:nvPr/>
        </p:nvPicPr>
        <p:blipFill>
          <a:blip r:embed="rId1"/>
          <a:stretch/>
        </p:blipFill>
        <p:spPr>
          <a:xfrm>
            <a:off x="6324480" y="4495680"/>
            <a:ext cx="2590920" cy="1943280"/>
          </a:xfrm>
          <a:prstGeom prst="rect">
            <a:avLst/>
          </a:prstGeom>
          <a:ln w="9360">
            <a:solidFill>
              <a:srgbClr val="996633"/>
            </a:solidFill>
            <a:miter/>
          </a:ln>
        </p:spPr>
      </p:pic>
      <p:pic>
        <p:nvPicPr>
          <p:cNvPr id="102" name="summit_parking12" descr=""/>
          <p:cNvPicPr/>
          <p:nvPr/>
        </p:nvPicPr>
        <p:blipFill>
          <a:blip r:embed="rId2"/>
          <a:stretch/>
        </p:blipFill>
        <p:spPr>
          <a:xfrm>
            <a:off x="685800" y="4495680"/>
            <a:ext cx="2590920" cy="1943280"/>
          </a:xfrm>
          <a:prstGeom prst="rect">
            <a:avLst/>
          </a:prstGeom>
          <a:ln w="9360">
            <a:solidFill>
              <a:srgbClr val="996633"/>
            </a:solidFill>
            <a:miter/>
          </a:ln>
        </p:spPr>
      </p:pic>
      <p:pic>
        <p:nvPicPr>
          <p:cNvPr id="103" name="cc-mastplan11" descr=""/>
          <p:cNvPicPr/>
          <p:nvPr/>
        </p:nvPicPr>
        <p:blipFill>
          <a:blip r:embed="rId3"/>
          <a:stretch/>
        </p:blipFill>
        <p:spPr>
          <a:xfrm>
            <a:off x="3508200" y="4495680"/>
            <a:ext cx="2587680" cy="1941480"/>
          </a:xfrm>
          <a:prstGeom prst="rect">
            <a:avLst/>
          </a:prstGeom>
          <a:ln w="936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838080" y="380520"/>
            <a:ext cx="7848720" cy="76212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ommun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066680" y="1376280"/>
            <a:ext cx="7467840" cy="825480"/>
          </a:xfrm>
          <a:prstGeom prst="rect">
            <a:avLst/>
          </a:prstGeom>
          <a:solidFill>
            <a:srgbClr val="993300"/>
          </a:solidFill>
          <a:ln w="1260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4.1% of residents have had contact with the City within the last 6 month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362320" y="2743200"/>
            <a:ext cx="62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Rate the courtesy of City of Maitland employees as very good or good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3520" y="2362320"/>
            <a:ext cx="1676160" cy="1676160"/>
          </a:xfrm>
          <a:prstGeom prst="irregularSeal1">
            <a:avLst/>
          </a:prstGeom>
          <a:solidFill>
            <a:srgbClr val="996633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82.3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86600" y="3886200"/>
            <a:ext cx="1676520" cy="1676520"/>
          </a:xfrm>
          <a:prstGeom prst="irregularSeal1">
            <a:avLst/>
          </a:prstGeom>
          <a:solidFill>
            <a:srgbClr val="996633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85.9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426708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Rate the helpfulness of City of Maitland employees as very good or good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5856840"/>
            <a:ext cx="7467480" cy="703800"/>
          </a:xfrm>
          <a:prstGeom prst="rect">
            <a:avLst/>
          </a:prstGeom>
          <a:solidFill>
            <a:srgbClr val="993300"/>
          </a:solidFill>
          <a:ln w="1260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.6% resident had contact with the City in person, 30.3% by phone,3% e-mail, 3.5% mail, 2.6% 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7848720" cy="76212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ommun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362320" y="510552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te the Tempo, the City’s newsletter as very good or goo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95280" y="6248520"/>
            <a:ext cx="7010640" cy="398880"/>
          </a:xfrm>
          <a:prstGeom prst="rect">
            <a:avLst/>
          </a:prstGeom>
          <a:solidFill>
            <a:srgbClr val="827c66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1.5% of respondents have no opinion regarding the Temp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54840" y="5167080"/>
            <a:ext cx="1630440" cy="714240"/>
          </a:xfrm>
          <a:prstGeom prst="ellipse">
            <a:avLst/>
          </a:pr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5.4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" y="1447920"/>
            <a:ext cx="7848720" cy="703800"/>
          </a:xfrm>
          <a:prstGeom prst="rect">
            <a:avLst/>
          </a:prstGeom>
          <a:solidFill>
            <a:srgbClr val="993300"/>
          </a:soli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ents preference on method of communication to learn about the 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380880" y="1828800"/>
          <a:ext cx="7162920" cy="357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7162920" cy="35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6553080" y="2743200"/>
            <a:ext cx="2590920" cy="871560"/>
          </a:xfrm>
          <a:prstGeom prst="rect">
            <a:avLst/>
          </a:prstGeom>
          <a:solidFill>
            <a:srgbClr val="b098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72.8% no opinion/don’t know when asked to rate the City Websit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990720" y="2133720"/>
            <a:ext cx="7467480" cy="2361960"/>
          </a:xfrm>
          <a:prstGeom prst="rect">
            <a:avLst/>
          </a:prstGeom>
          <a:gradFill rotWithShape="0">
            <a:gsLst>
              <a:gs pos="0">
                <a:srgbClr val="3b392f"/>
              </a:gs>
              <a:gs pos="50000">
                <a:srgbClr val="827c66"/>
              </a:gs>
              <a:gs pos="100000">
                <a:srgbClr val="3b392f"/>
              </a:gs>
            </a:gsLst>
            <a:lin ang="5400000"/>
          </a:gradFill>
          <a:ln w="76320">
            <a:solidFill>
              <a:srgbClr val="b09800"/>
            </a:solidFill>
            <a:miter/>
          </a:ln>
          <a:effectLst>
            <a:outerShdw dist="17819" dir="2700000" blurRad="0" rotWithShape="0">
              <a:srgbClr val="695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Freestyle Script"/>
              </a:rPr>
              <a:t>The End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304920"/>
            <a:ext cx="8381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following individuals supported to this project: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0880" y="914400"/>
            <a:ext cx="8763120" cy="190512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5400000"/>
          </a:gra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Evan Berman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, Ph.D., who conducted and presented the survey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Amy Eastin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, OMB Analyst, who developed these slid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Michelle delValle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, OMB Manager, who oversaw this projec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14800" y="43434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an Spragu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ity Mana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838080" y="3200400"/>
          <a:ext cx="2757600" cy="33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200400"/>
                    <a:ext cx="2757600" cy="3375000"/>
                  </a:xfrm>
                  <a:prstGeom prst="rect">
                    <a:avLst/>
                  </a:prstGeom>
                  <a:ln w="57240">
                    <a:solidFill>
                      <a:srgbClr val="996633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Brian%20Jones" descr=""/>
          <p:cNvPicPr/>
          <p:nvPr/>
        </p:nvPicPr>
        <p:blipFill>
          <a:blip r:embed="rId1"/>
          <a:stretch/>
        </p:blipFill>
        <p:spPr>
          <a:xfrm>
            <a:off x="6400800" y="304920"/>
            <a:ext cx="2214720" cy="3159000"/>
          </a:xfrm>
          <a:prstGeom prst="rect">
            <a:avLst/>
          </a:prstGeom>
          <a:ln w="57240">
            <a:solidFill>
              <a:srgbClr val="996633"/>
            </a:solidFill>
            <a:miter/>
          </a:ln>
        </p:spPr>
      </p:pic>
      <p:sp>
        <p:nvSpPr>
          <p:cNvPr id="317" name=""/>
          <p:cNvSpPr/>
          <p:nvPr/>
        </p:nvSpPr>
        <p:spPr>
          <a:xfrm>
            <a:off x="3886200" y="10666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ian J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sistant City Mana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8080" y="2819520"/>
            <a:ext cx="784872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onna William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City Clerk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ynda Denni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Finance Direct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avid Tomek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Community Development Direct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hief Edward Doyl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Police Depart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hief Dan Hardester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Fire &amp; Building Depart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hristen Smith,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Parks &amp; Recreation Depart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ony Leffi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Public Works Depart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ity of Maitland Mayor and Counc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groupcouncilphoto" descr=""/>
          <p:cNvPicPr/>
          <p:nvPr/>
        </p:nvPicPr>
        <p:blipFill>
          <a:blip r:embed="rId1"/>
          <a:stretch/>
        </p:blipFill>
        <p:spPr>
          <a:xfrm>
            <a:off x="762120" y="1782720"/>
            <a:ext cx="5333760" cy="42703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grpSp>
        <p:nvGrpSpPr>
          <p:cNvPr id="321" name=""/>
          <p:cNvGrpSpPr/>
          <p:nvPr/>
        </p:nvGrpSpPr>
        <p:grpSpPr>
          <a:xfrm>
            <a:off x="6248520" y="1905120"/>
            <a:ext cx="2895480" cy="3980160"/>
            <a:chOff x="6248520" y="1905120"/>
            <a:chExt cx="2895480" cy="3980160"/>
          </a:xfrm>
        </p:grpSpPr>
        <p:sp>
          <p:nvSpPr>
            <p:cNvPr id="322" name=""/>
            <p:cNvSpPr/>
            <p:nvPr/>
          </p:nvSpPr>
          <p:spPr>
            <a:xfrm>
              <a:off x="6248520" y="190512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yor, Sascha Rizz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553080" y="2514600"/>
              <a:ext cx="228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ice Mayor, Keith Whi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53080" y="3352680"/>
              <a:ext cx="228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uncilman, Tom Holle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553080" y="4191120"/>
              <a:ext cx="2210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uncilman, Rick Baldocch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553080" y="5181480"/>
              <a:ext cx="2210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uncilman,   Dr. David Libe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61760" y="685440"/>
            <a:ext cx="7848360" cy="762120"/>
          </a:xfrm>
          <a:prstGeom prst="rect">
            <a:avLst/>
          </a:prstGeom>
          <a:solidFill>
            <a:srgbClr val="827c66"/>
          </a:solidFill>
          <a:ln w="19080">
            <a:solidFill>
              <a:srgbClr val="9966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9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Freestyle Script"/>
              </a:rPr>
              <a:t>Why a survey? 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2133720"/>
            <a:ext cx="70106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vides the City with citizen perception of community conditions and municipal services that can be used for strengthening existing programs and developing new effort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h01992j" descr=""/>
          <p:cNvPicPr/>
          <p:nvPr/>
        </p:nvPicPr>
        <p:blipFill>
          <a:blip r:embed="rId1"/>
          <a:stretch/>
        </p:blipFill>
        <p:spPr>
          <a:xfrm>
            <a:off x="6477120" y="5181480"/>
            <a:ext cx="968400" cy="1462320"/>
          </a:xfrm>
          <a:prstGeom prst="rect">
            <a:avLst/>
          </a:prstGeom>
          <a:ln w="12600">
            <a:solidFill>
              <a:srgbClr val="827c66"/>
            </a:solidFill>
            <a:miter/>
          </a:ln>
        </p:spPr>
      </p:pic>
      <p:pic>
        <p:nvPicPr>
          <p:cNvPr id="107" name="ph01975j" descr=""/>
          <p:cNvPicPr/>
          <p:nvPr/>
        </p:nvPicPr>
        <p:blipFill>
          <a:blip r:embed="rId2"/>
          <a:stretch/>
        </p:blipFill>
        <p:spPr>
          <a:xfrm>
            <a:off x="5105520" y="5181480"/>
            <a:ext cx="965160" cy="1447920"/>
          </a:xfrm>
          <a:prstGeom prst="rect">
            <a:avLst/>
          </a:prstGeom>
          <a:ln w="12600">
            <a:solidFill>
              <a:srgbClr val="827c66"/>
            </a:solidFill>
            <a:miter/>
          </a:ln>
        </p:spPr>
      </p:pic>
      <p:pic>
        <p:nvPicPr>
          <p:cNvPr id="108" name="ph01984j" descr=""/>
          <p:cNvPicPr/>
          <p:nvPr/>
        </p:nvPicPr>
        <p:blipFill>
          <a:blip r:embed="rId3"/>
          <a:stretch/>
        </p:blipFill>
        <p:spPr>
          <a:xfrm>
            <a:off x="3733920" y="5181480"/>
            <a:ext cx="968400" cy="1467000"/>
          </a:xfrm>
          <a:prstGeom prst="rect">
            <a:avLst/>
          </a:prstGeom>
          <a:ln w="12600">
            <a:solidFill>
              <a:srgbClr val="827c66"/>
            </a:solidFill>
            <a:miter/>
          </a:ln>
        </p:spPr>
      </p:pic>
      <p:pic>
        <p:nvPicPr>
          <p:cNvPr id="109" name="ph02019j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968400" cy="1467000"/>
          </a:xfrm>
          <a:prstGeom prst="rect">
            <a:avLst/>
          </a:prstGeom>
          <a:ln w="12600">
            <a:solidFill>
              <a:srgbClr val="827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7848720" cy="762120"/>
          </a:xfrm>
          <a:prstGeom prst="rect">
            <a:avLst/>
          </a:prstGeom>
          <a:solidFill>
            <a:srgbClr val="827c66"/>
          </a:solidFill>
          <a:ln w="1908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How Survey was condu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1523880"/>
            <a:ext cx="74674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rvey was developed with input from city government staff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me items based on the 1996 survey (compariso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ata were collected through telephone interview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ndom dialing was used to ensure a valid sample (representative) of City of Maitland residen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ample size is 33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bs00243_" descr=""/>
          <p:cNvPicPr/>
          <p:nvPr/>
        </p:nvPicPr>
        <p:blipFill>
          <a:blip r:embed="rId1"/>
          <a:stretch/>
        </p:blipFill>
        <p:spPr>
          <a:xfrm>
            <a:off x="7543800" y="4800600"/>
            <a:ext cx="132084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304920"/>
            <a:ext cx="7848720" cy="761760"/>
          </a:xfrm>
          <a:prstGeom prst="rect">
            <a:avLst/>
          </a:prstGeom>
          <a:solidFill>
            <a:srgbClr val="827c66"/>
          </a:solidFill>
          <a:ln w="1908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Survey Method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1371600"/>
          <a:ext cx="8077320" cy="240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77320" cy="2406600"/>
                  </a:xfrm>
                  <a:prstGeom prst="rect">
                    <a:avLst/>
                  </a:prstGeom>
                  <a:ln w="76320">
                    <a:solidFill>
                      <a:srgbClr val="996633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066680" y="4038480"/>
          <a:ext cx="7239240" cy="1503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038480"/>
                    <a:ext cx="7239240" cy="1503360"/>
                  </a:xfrm>
                  <a:prstGeom prst="rect">
                    <a:avLst/>
                  </a:prstGeom>
                  <a:ln w="76320">
                    <a:solidFill>
                      <a:srgbClr val="99663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762120" y="5867280"/>
            <a:ext cx="7772400" cy="762120"/>
          </a:xfrm>
          <a:prstGeom prst="rect">
            <a:avLst/>
          </a:prstGeom>
          <a:solidFill>
            <a:srgbClr val="996633"/>
          </a:solidFill>
          <a:ln w="0">
            <a:noFill/>
          </a:ln>
          <a:effectLst>
            <a:outerShdw dist="17819" dir="2700000" blurRad="0" rotWithShape="0">
              <a:srgbClr val="5b3c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te: Preliminary 2000 census data for population and race data. No census data exists regarding distribution of residents in different district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040" y="304560"/>
            <a:ext cx="7940520" cy="70308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Demographics  Captured by the Surv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1371600"/>
            <a:ext cx="6019920" cy="7621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462f17"/>
              </a:gs>
            </a:gsLst>
            <a:lin ang="5400000"/>
          </a:gra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ow long respondent has lived in Maitlan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371600"/>
            <a:ext cx="2286000" cy="7621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462f17"/>
              </a:gs>
            </a:gsLst>
            <a:lin ang="5400000"/>
          </a:gra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n 17.4 y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181480"/>
            <a:ext cx="6476760" cy="758880"/>
          </a:xfrm>
          <a:prstGeom prst="rect">
            <a:avLst/>
          </a:prstGeom>
          <a:solidFill>
            <a:srgbClr val="993300"/>
          </a:solidFill>
          <a:ln w="5724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pondents who have children under 18 years old living at h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5181480"/>
            <a:ext cx="1600200" cy="762120"/>
          </a:xfrm>
          <a:prstGeom prst="rect">
            <a:avLst/>
          </a:prstGeom>
          <a:solidFill>
            <a:srgbClr val="993300"/>
          </a:solidFill>
          <a:ln w="5724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.6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2320" y="6073920"/>
            <a:ext cx="2057400" cy="639720"/>
          </a:xfrm>
          <a:prstGeom prst="rect">
            <a:avLst/>
          </a:prstGeom>
          <a:solidFill>
            <a:srgbClr val="993300"/>
          </a:solidFill>
          <a:ln w="5724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Man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56040" y="6073920"/>
            <a:ext cx="1981080" cy="639720"/>
          </a:xfrm>
          <a:prstGeom prst="rect">
            <a:avLst/>
          </a:prstGeom>
          <a:solidFill>
            <a:srgbClr val="993300"/>
          </a:solidFill>
          <a:ln w="5724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an 1.8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2438280"/>
            <a:ext cx="2209680" cy="1143000"/>
          </a:xfrm>
          <a:prstGeom prst="rect">
            <a:avLst/>
          </a:prstGeom>
          <a:gradFill rotWithShape="0">
            <a:gsLst>
              <a:gs pos="0">
                <a:srgbClr val="3b392f"/>
              </a:gs>
              <a:gs pos="50000">
                <a:srgbClr val="827c66"/>
              </a:gs>
              <a:gs pos="100000">
                <a:srgbClr val="3b392f"/>
              </a:gs>
            </a:gsLst>
            <a:lin ang="5400000"/>
          </a:gra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much formal schooling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2438280"/>
            <a:ext cx="5029200" cy="2590920"/>
          </a:xfrm>
          <a:prstGeom prst="rect">
            <a:avLst/>
          </a:prstGeom>
          <a:gradFill rotWithShape="0">
            <a:gsLst>
              <a:gs pos="0">
                <a:srgbClr val="3b392f"/>
              </a:gs>
              <a:gs pos="50000">
                <a:srgbClr val="827c66"/>
              </a:gs>
              <a:gs pos="100000">
                <a:srgbClr val="3b392f"/>
              </a:gs>
            </a:gsLst>
            <a:lin ang="5400000"/>
          </a:gra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ss than HS .6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School 12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College 23.7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lege Graduate 38.2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aduate or Professional Degree 25.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3733920"/>
            <a:ext cx="2209680" cy="990360"/>
          </a:xfrm>
          <a:prstGeom prst="rect">
            <a:avLst/>
          </a:prstGeom>
          <a:solidFill>
            <a:srgbClr val="b09800"/>
          </a:soli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an Inc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$63,7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90920" y="1447560"/>
            <a:ext cx="5943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sidents feel the quality of life in Maitland is very good or go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457200"/>
            <a:ext cx="7848720" cy="685800"/>
          </a:xfrm>
          <a:prstGeom prst="rect">
            <a:avLst/>
          </a:prstGeom>
          <a:solidFill>
            <a:srgbClr val="827c66"/>
          </a:solidFill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Quality of Life in Mait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43200" y="2514600"/>
            <a:ext cx="5638680" cy="36828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arly identical with the 1996 surve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447920"/>
            <a:ext cx="152388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14600"/>
              </a:gs>
              <a:gs pos="50000">
                <a:srgbClr val="b09800"/>
              </a:gs>
              <a:gs pos="100000">
                <a:srgbClr val="514600"/>
              </a:gs>
            </a:gsLst>
            <a:lin ang="5400000"/>
          </a:gradFill>
          <a:ln w="414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95.5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3048120"/>
            <a:ext cx="2514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99 Orange County and 2000 City of Eustis Survey asked how much citizens agreed with the statement “the quality of life in Orange County/City of Eustis is good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04920" y="2971800"/>
          <a:ext cx="6476760" cy="322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71800"/>
                    <a:ext cx="6476760" cy="32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676520" y="6324480"/>
            <a:ext cx="6095880" cy="33732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based on respondents who have an opin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38080" y="533520"/>
            <a:ext cx="7848720" cy="685800"/>
          </a:xfrm>
          <a:prstGeom prst="rect">
            <a:avLst/>
          </a:prstGeom>
          <a:solidFill>
            <a:srgbClr val="827c66"/>
          </a:solidFill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Maitland as a wh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1447920"/>
            <a:ext cx="7238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Nearly half of the residents response to how they feel “The City of Maitland as a whole is” </a:t>
            </a:r>
            <a:r>
              <a:rPr b="0" lang="en-US" sz="2900" spc="-1" strike="noStrike">
                <a:solidFill>
                  <a:srgbClr val="f4e300"/>
                </a:solidFill>
                <a:latin typeface="Impact"/>
              </a:rPr>
              <a:t>getting better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90720" y="2895480"/>
          <a:ext cx="792468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79246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838080" y="2819520"/>
          <a:ext cx="7772400" cy="358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819520"/>
                    <a:ext cx="777240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990720" y="304920"/>
            <a:ext cx="784836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ity Gover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114300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dents trust city government to do what is right most of th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934320" y="1219320"/>
            <a:ext cx="1371600" cy="914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5400000"/>
          </a:gra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83.7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71680" y="6080040"/>
            <a:ext cx="5113440" cy="92160"/>
          </a:xfrm>
          <a:custGeom>
            <a:avLst/>
            <a:gdLst/>
            <a:ahLst/>
            <a:rect l="l" t="t" r="r" b="b"/>
            <a:pathLst>
              <a:path w="3221" h="58">
                <a:moveTo>
                  <a:pt x="0" y="58"/>
                </a:moveTo>
                <a:lnTo>
                  <a:pt x="3139" y="58"/>
                </a:lnTo>
                <a:lnTo>
                  <a:pt x="3221" y="0"/>
                </a:lnTo>
                <a:lnTo>
                  <a:pt x="82" y="0"/>
                </a:lnTo>
                <a:lnTo>
                  <a:pt x="0" y="5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286000" y="5749920"/>
            <a:ext cx="4853520" cy="457200"/>
            <a:chOff x="2286000" y="5749920"/>
            <a:chExt cx="4853520" cy="457200"/>
          </a:xfrm>
        </p:grpSpPr>
        <p:sp>
          <p:nvSpPr>
            <p:cNvPr id="148" name=""/>
            <p:cNvSpPr/>
            <p:nvPr/>
          </p:nvSpPr>
          <p:spPr>
            <a:xfrm>
              <a:off x="2286000" y="57499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30640" y="57499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30720" y="57499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13520" y="57499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13600" y="57499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39160" y="57499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143000" y="2362320"/>
            <a:ext cx="746748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ust in Government Compari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6248520"/>
            <a:ext cx="7010280" cy="33732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ity of Eustis respondents to question with “strongly agree and agree”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1240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y of Mait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29400" y="36576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y of Eust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41148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 of Flori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67080" y="46483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 of Flori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19720" y="51814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 of Flori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9T13:12:52Z</dcterms:created>
  <dc:creator>Amy</dc:creator>
  <dc:description/>
  <dc:language>en-US</dc:language>
  <cp:lastModifiedBy>Congessional Quarterly</cp:lastModifiedBy>
  <dcterms:modified xsi:type="dcterms:W3CDTF">2001-08-03T13:02:26Z</dcterms:modified>
  <cp:revision>154</cp:revision>
  <dc:subject/>
  <dc:title>PowerPoint Presentation</dc:title>
</cp:coreProperties>
</file>